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7CB-F321-4C39-8AB3-21AE95CB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298-2D5C-43D4-9DDD-2AD42E7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DA9-F9ED-4F10-9013-3F8EEE65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609-453A-4316-8BC2-01364F75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AAA7-9F27-4962-A7D4-6425B8FF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2D1F-4B9A-40A0-9144-B8BA2830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301-C4C8-471F-8749-A82E318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8EB-8FAA-4670-B493-E649839D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CFDA-7DDB-44B5-AAA6-24E28337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262B-A231-46A9-90D7-C4BCFC2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D75-3E9E-46E1-8DD0-FF951B9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EE7-2889-4765-AB92-B35CAAD1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BB6-7965-48B3-AAA8-7F92BAA8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0A9B-B364-4AF4-B5B9-1AD06345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FAF-ABE9-41A5-A12D-24B3553D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4DC1-7881-4F71-A9FA-31FDBF2E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A585-51D2-46EB-9C5E-C4977AB7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91E6-BCA4-41D9-98EB-A7662867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FA88-8E24-41B9-9E92-08C50A84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C8AFD-D69D-4BC1-9F0F-E75A8779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04A84-14BB-4002-8230-7C44C79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E4490-D66B-4442-AFAE-9A4A10C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691-AAD1-44C9-BC65-42F7D991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4E62-8699-408B-ADC3-E50D0B1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F2B9-666A-4BF5-9681-7F1CFB3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27EF-64D4-4497-9B9E-305086F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5451-33EA-47EF-B18F-6B3B454D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58F73-933A-4EFF-A656-1BE0315B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4A94-1FB0-4CDA-A1E1-D2B1F241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E1B61-C348-4D38-99F1-FFADCABD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52DC-4C60-4CE1-87C0-313EA597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93BE9-65B9-4054-833D-079866EA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AE53-A22F-48C1-8C10-0BC23D0A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010-45A8-4BDE-902E-1DB6BD7D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29FA-34F1-4078-8465-7511C09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1B11-F029-401E-89D4-A1FFED57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7E3B0-048D-4612-BFF0-FE043BD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8A76-1FB5-4A23-9265-1908104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33E9-12FD-430A-95EA-1DB6DC7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1D7E-2F52-4B1D-AE06-FCD849B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04F51-B6E7-4499-82BB-2180863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C2B03-4795-4416-8386-5735BC84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85F2-D4DB-45E5-A968-19E8EF94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166AF-07E5-42BC-8771-829A1280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827-EACC-4B46-944B-A269EE14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9857-35B7-40C0-BBEC-1C6A0732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4B30D-13C4-445E-8E7C-406949AE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D3D66-E394-40EF-80B6-9B8968B3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F45C-B922-4152-BBE1-3E12DF6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FACE-F029-4A47-BE94-8F87BE52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94B4-C18D-4D18-BDDD-A03D016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E9BF7-EC30-400F-84AC-C75ED86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6826-02D4-4A80-A18B-AFD993B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A8EC2-53AF-4683-960C-7DB01C59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DD9D1-CD0C-4769-8BC2-120CE274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B17A-3208-4CF9-AA38-E61B8713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3D7C5-3415-4AA0-9AC0-04B58FFF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0B75D-3B4A-4444-9568-390554DF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73889-09E3-4FC7-B14D-DFC6F2CD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116FB-572A-4EA7-8A66-3E2BAE0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233B2-17C5-4F66-BB5F-17E0DCF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CB251-25B3-4C3D-A81B-6BD36ECA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839D-FA32-4490-87DD-70F420A5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1081-3C04-4CF5-9074-4C147BF0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4D347-206D-4514-A42F-F5EEF379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BF89-0DDC-42D4-8182-1AEF82FD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5C9-3ECB-4D3F-87AB-308A1E30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5328-8129-4B73-BC8A-B818B34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B87E-3DC4-47E1-A299-0E4B12A2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1AB4D-175A-4994-9259-99FB966D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26D8C-1034-43AB-A1DB-C77E0972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C9318-92CE-4CAA-86CF-F5373DB9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1F1E4-DAC0-4DB1-A8F9-ACE51EF3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BAEA4-2FBA-45D4-AF0A-4C316971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CB66-19C7-4845-B334-22D8B7C8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7E30-84FD-444C-8DA4-36955BC6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458AC-7796-4225-A113-C8057B9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27B-57F6-44E1-A5C1-9D3E00FD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91060-6CBD-4ADC-BD9C-BBC09D1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4ADBD-7918-4D3F-9C20-0FDAD87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1E3B0-168D-4FC1-9309-0A99B312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01E6B-74E1-4EBD-82AB-BF80CDD7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F844A-F523-4105-BE0E-762C8CB0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E59-B667-41B0-A9EE-D7F3675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55A5-D072-4C8C-B5B5-FB3A4E0358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5F95-29FD-427D-8230-D9D18ACEDB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54D0-72CE-44D3-8425-19A8B835CF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8FCD-1F93-4EDB-91C6-C2D19CCBB6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42E7-FA4A-48C1-9EFB-FA9D28F482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9AE-F62F-4D54-A5B9-7F8D214F431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1EEB-5823-4AF3-871F-7784775746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85920" y="1371600"/>
            <a:ext cx="70992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611617"/>
                </a:solidFill>
                <a:uFillTx/>
                <a:latin typeface="Times New Roman"/>
                <a:ea typeface="Times New Roman"/>
              </a:rPr>
              <a:t>Диагностическое </a:t>
            </a:r>
            <a:br>
              <a:rPr sz="4000"/>
            </a:br>
            <a:r>
              <a:rPr b="1" i="1" lang="ru-RU" sz="4000" spc="-1" strike="noStrike" u="sng">
                <a:solidFill>
                  <a:srgbClr val="611617"/>
                </a:solidFill>
                <a:uFillTx/>
                <a:latin typeface="Times New Roman"/>
                <a:ea typeface="Times New Roman"/>
              </a:rPr>
              <a:t>тестирование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1 класс</a:t>
            </a:r>
            <a:br>
              <a:rPr sz="44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71760" y="3857760"/>
            <a:ext cx="6922800" cy="228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Математик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6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базовый уровень)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619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600" spc="-1" strike="noStrike">
                <a:solidFill>
                  <a:srgbClr val="922223"/>
                </a:solidFill>
                <a:latin typeface="Times New Roman"/>
                <a:ea typeface="Times New Roman"/>
              </a:rPr>
              <a:t>12.01.2016 г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42960" y="0"/>
            <a:ext cx="829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уководителям общеобразовательных учреждений, руководителям ШМО ОУ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вести анализ результатов пробного ЕГЭ 12.01.2016 г., продолжить работу по улучшению показателей успеваемости (без оценок «2») результатов Государственного экзамена 2016 год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ржать на личном контроле дополнительные занятия учителей математики в урочное и внеурочное время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зять на контроль проведение занятий по изучению и применению справочных материалов ЕГЭ по математике базового уровн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уководителям СОШ № 3, СОШ № 8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илить контроль работы учителей математики на уроках и внеурочное время (дополнительные занятия) по подготовке к ЕГЭ по математике на базовом уровн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чителям математик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сти анализ затруднений обучающихся по результатам пробного ЕГЭ 12.01.2016 г. с целью их устран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братить внимание на отработку общеучебных умений и навыков учащихся, скорость вычислительных действий без калькулятора, развитие логического мышления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вести занятий по изучению и применению справочных материалов ЕГЭ по математике базового уровн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ести работу с учащимися 11 классов по индивидуальному плану (в урочное и внеурочное время) подготовки к ЕГЭ на базовом уровне в 2016 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Участники</a:t>
            </a: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1" name="Содержимое 4" descr=""/>
          <p:cNvPicPr/>
          <p:nvPr/>
        </p:nvPicPr>
        <p:blipFill>
          <a:blip r:embed="rId1"/>
          <a:stretch/>
        </p:blipFill>
        <p:spPr>
          <a:xfrm>
            <a:off x="1047600" y="633240"/>
            <a:ext cx="79311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000080" y="642960"/>
            <a:ext cx="814392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rbel"/>
              </a:rPr>
              <a:t>Экзаменационная работа состоит из одной части, включающей в себя 20 заданий </a:t>
            </a:r>
            <a:r>
              <a:rPr b="0" lang="ru-RU" sz="2800" spc="-1" strike="noStrike">
                <a:solidFill>
                  <a:srgbClr val="002060"/>
                </a:solidFill>
                <a:latin typeface="Corbel"/>
              </a:rPr>
              <a:t>с кратким ответом базового уровня сложности. Модель базового уровня предназначена для государственной итоговой аттестации выпускников, не планирующих продолжение образования  в профессиях, предъявляющих специальные требования к уровню математической подготовки. В работу включены  задания по всем основным предметным разделам: геометрия, алгебра, начала математического анализа, теория вероятностей, статистик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000080" y="499680"/>
            <a:ext cx="77868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c4853"/>
                </a:solidFill>
                <a:latin typeface="Corbel"/>
              </a:rPr>
              <a:t>На выполнение экзаменационной работы отводится 3 часа.</a:t>
            </a:r>
            <a:r>
              <a:rPr b="0" lang="ru-RU" sz="4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4400" spc="-1" strike="noStrike">
                <a:solidFill>
                  <a:srgbClr val="835e01"/>
                </a:solidFill>
                <a:latin typeface="Corbel"/>
              </a:rPr>
              <a:t>Максимальное количество баллов за работу – 20</a:t>
            </a:r>
            <a:r>
              <a:rPr b="0" lang="ru-RU" sz="4400" spc="-1" strike="noStrike">
                <a:solidFill>
                  <a:srgbClr val="835e01"/>
                </a:solidFill>
                <a:latin typeface="Corbel"/>
              </a:rPr>
              <a:t>, за каждое верно выполненное задание 1 балл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Минимальный порог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–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7 балло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571680"/>
            <a:ext cx="74995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Шкала оценок </a:t>
            </a:r>
            <a:br>
              <a:rPr sz="39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2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-   0-6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3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 -  7-11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4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-  12-16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rbel"/>
              </a:rPr>
              <a:t>«5»</a:t>
            </a:r>
            <a:r>
              <a:rPr b="1" i="1" lang="ru-RU" sz="60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i="1" lang="ru-RU" sz="6000" spc="-1" strike="noStrike">
                <a:solidFill>
                  <a:srgbClr val="0070c0"/>
                </a:solidFill>
                <a:latin typeface="Corbel"/>
              </a:rPr>
              <a:t>-  17-20 баллов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06360" indent="-237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70c0"/>
                </a:solidFill>
                <a:latin typeface="Corbel"/>
              </a:rPr>
              <a:t>Результат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71360" y="428760"/>
            <a:ext cx="78627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2»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3 (4,91% от общего числа участников тестирования)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3»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21 (34,42 % от общего числа участников тестир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4»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23 (37,7 % от общего числа участников тестир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- 14 (22,95 % от общего числа участников тестирования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3 ученика из СОШ № 2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1 ученик из СОШ № 3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1 ученик из СОШ № 8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7 учеников из СОШ № 10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2 ученика из Шугуровской СОШ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900"/>
            </a:b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5680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оказатель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успеваемости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составил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95,09 %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100 % успеваемости во всех школах, кроме СОШ № 3 – 83,34% и СОШ № 8 – 81,82 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Не выполнили 7 заданий учащиеся и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- СОШ № 3,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обучающийся из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6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участников тестирования (16,66%) (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- СОШ № 8,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обучающихся из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11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 участников тестирования (18,18%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меются 5 учащихся набравшие ровно 7 баллов – группа рис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214280" y="4643280"/>
          <a:ext cx="7596360" cy="2214720"/>
        </p:xfrm>
        <a:graphic>
          <a:graphicData uri="http://schemas.openxmlformats.org/drawingml/2006/table">
            <a:tbl>
              <a:tblPr/>
              <a:tblGrid>
                <a:gridCol w="1285920"/>
                <a:gridCol w="2143080"/>
                <a:gridCol w="2268720"/>
                <a:gridCol w="1898640"/>
              </a:tblGrid>
              <a:tr h="6310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1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ВОХМ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ЕКАТЕ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АЛЕКСАНД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96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1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ДУРАН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ВЕРО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ПАВ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60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1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ЛЕГА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ДИ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ЮР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3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ГАЛИМ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ИЛЬМ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ИЛЬСУР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528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353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ПЕ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КИРИ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  <a:ea typeface="Times New Roman"/>
                        </a:rPr>
                        <a:t>АРТЕМ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571680" y="0"/>
            <a:ext cx="8572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Качество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по району составило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60,65 %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(14 оценок «5» и 23 оценок «4»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Лучший показатель продемонстрировали СОШ № 2 – 100 % и СОШ № 6 – 100 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Выше муниципального показателя в СОШ № 10 – 88,23 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2100" spc="-1" strike="noStrike">
                <a:solidFill>
                  <a:srgbClr val="ff0000"/>
                </a:solidFill>
                <a:latin typeface="Corbel"/>
              </a:rPr>
              <a:t>Средний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% выполнения  заданий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64,18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Лучший результат в СОШ № 2 – 84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Выше муниципального показателя в СОШ № 10 – 77,94, в Шугуровской СОШ – 71,43, в СОШ № 6 – 67,5.     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Ниже муниципального показателя средний балл в СОШ № 7 – 60; в СОШ № 5 – 56,25; в СОШ № 8 и СОШ № 3 – 50; в Старокувакской СОШ – 47,5, в гимназии № 11 – 37,5; в Зелено-Рощинской СОШ – 35; 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 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Средняя оценка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по ЛМР составила </a:t>
            </a:r>
            <a:r>
              <a:rPr b="1" i="1" lang="ru-RU" sz="2100" spc="-1" strike="noStrike">
                <a:solidFill>
                  <a:srgbClr val="c00000"/>
                </a:solidFill>
                <a:latin typeface="Corbel"/>
              </a:rPr>
              <a:t>3,78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Лучший результат в СОШ № 2 – 5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Выше муниципального показателя в Шугуровской СОШ – 4,57, в СОШ № 10 – 4,29, в СОШ № 6 – 4.         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i="1" lang="ru-RU" sz="2100" spc="-1" strike="noStrike">
                <a:solidFill>
                  <a:srgbClr val="000000"/>
                </a:solidFill>
                <a:latin typeface="Corbel"/>
              </a:rPr>
              <a:t>Ниже муниципального показателя средняя оценка в СОШ № 5 и СОШ № 7 – 3,5, в СОШ № 3 – 3,33, в СОШ № 8 – 3,18, в гимназии № 11, в Зелено-рощинской СОШ, в Старокувакской СОШ -3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6351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35e01"/>
                </a:solidFill>
                <a:latin typeface="Corbel"/>
              </a:rPr>
              <a:t>Выводы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4240" y="1285920"/>
            <a:ext cx="8220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ровень обученности математике выпускников 11 классов по результатам пробного ЕГЭ 12.01.2016 г. на базовом уровне на недостаточном уровн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тметить положительный опыт работы по подготовке к ЕГЭ по математике школы с основными показателями выше муниципальных (успеваемость, качество, процент выполнения, средняя оценка):  СОШ № 2, СОШ № 6, СОШ № 10, Шугуровская СОШ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03:59:26Z</dcterms:created>
  <dc:creator>1</dc:creator>
  <dc:description/>
  <dc:language>en-US</dc:language>
  <cp:lastModifiedBy>Загидуллина </cp:lastModifiedBy>
  <dcterms:modified xsi:type="dcterms:W3CDTF">2016-02-05T04:34:27Z</dcterms:modified>
  <cp:revision>531</cp:revision>
  <dc:subject/>
  <dc:title>ГИА-9</dc:title>
</cp:coreProperties>
</file>